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B58-0DAA-4A68-85A4-2B69B5DF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023-F3D4-463D-9FE3-C238B95D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A1E-4D29-44CA-A94E-4D2FFBEB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ABC-11B6-4E4A-976C-7F28A162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718-FDC8-4F69-AC8D-6B3980C9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B6D-6E3C-4FE8-9441-D05FB52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D20-12E8-493B-8515-A8CF562B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C79-897D-4CDC-B5C4-479FC4E2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F08-58F5-489B-A195-A952E775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7F1-435F-4B26-8C8D-3863D22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5F5-9FAC-49B3-9B05-A1AF57C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97E-0234-4B71-A5B0-B181A87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864-D90C-4FC7-89E8-FBE393BE5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5 Oslavujme Ježi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up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cu hriešnikov, Krist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úchom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nás od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Pá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, smrti i súd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á mo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nech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rátko u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í sa v sláve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dným na s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ným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a, Vykupiteľ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o ň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zvesť radost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j a spievaj, ľud Bož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cesta, pravda i život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pasti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dí on ovce s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e nosí slabé a zran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rúcnou piesň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aránka Božieho chváľ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mrel za nás 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vyš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tak drahé a vzácn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, Ježi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presvätý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láskou več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ňho 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me mu odda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11:44Z</dcterms:modified>
  <cp:revision>13</cp:revision>
  <dc:subject/>
  <dc:title>Je veľký náš Pán, on slávy je Kráľ Nech do všetkých strán  spev vrúcnych znie chvál.</dc:title>
</cp:coreProperties>
</file>